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E78-133F-45E8-AC30-559EC00A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FAD-7743-4F0C-9D4A-9096E171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27D-584C-4A4B-BDA0-B04A0E82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C40-BDA4-429A-98E0-4F0AD0C5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C8D6-65F6-441F-8D07-264D1B93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9D80-75E5-4D0A-A079-B6F1A881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622A-C4EA-414E-81FF-CB3F54DF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1978-054B-4AF1-8C2D-92CFB9E5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F00C-0EDC-4119-9950-698A2D76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5BF-899B-4E6E-9F4A-5B3E2D87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B972-0DF7-44AC-AF20-DC6EC675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AC4-038E-4379-A0B7-74B9EC57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C731-BA4A-431B-8441-722D114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303F-1A81-42F1-8C2D-ABB855A3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3120-5868-4B39-B82B-59396D1F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A9C4-CD5B-4B5D-A22D-2DA3CF49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A9D-2657-4A06-B97A-50F60A84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2C9-F5D0-4821-90BA-8CD63A0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8CE-878F-4B9E-AFD2-3683ADFA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9EF-A925-4AEA-97FE-E05AEA7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F8C-BC27-4ABD-89A9-E3EB4A0F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7FA-F26D-4D42-8E5A-AE3BDEA1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C7B-4525-408F-A3A2-68ACE95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E6B-CB1F-4A29-AC8C-D25CDA6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1B67-AAF3-4E86-B5D0-4427475EE3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F8CB-A20F-45D7-88A2-8DBF4701FC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SYLLAB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AD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Read each of the parables two times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MORY VER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14:33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9: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2: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3:20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13: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SEARCH PAP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rite a two-page essay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an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one of the list 45 Parables (your choi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XA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e Exam – a F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ELF-EXAM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mplete all your Self-Exa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 Chapters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am question will come from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R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68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AD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EMORY VERS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SEARCH PAP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SELF-EXAM QUES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INAL EX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57:56Z</dcterms:created>
  <dc:creator>Jerry Cantrell </dc:creator>
  <dc:description/>
  <dc:language>en-US</dc:language>
  <cp:lastModifiedBy>Jerry Cantrell </cp:lastModifiedBy>
  <dcterms:modified xsi:type="dcterms:W3CDTF">2006-02-06T23:29:51Z</dcterms:modified>
  <cp:revision>4</cp:revision>
  <dc:subject/>
  <dc:title>SYLLABUS</dc:title>
</cp:coreProperties>
</file>